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38.wmf" ContentType="image/x-wmf"/>
  <Override PartName="/ppt/media/image37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3.wmf" ContentType="image/x-wmf"/>
  <Override PartName="/ppt/media/image39.wmf" ContentType="image/x-wmf"/>
  <Override PartName="/ppt/media/image57.wmf" ContentType="image/x-wmf"/>
  <Override PartName="/ppt/media/image20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60.wmf" ContentType="image/x-wmf"/>
  <Override PartName="/ppt/media/image24.wmf" ContentType="image/x-wmf"/>
  <Override PartName="/ppt/media/image25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23.png" ContentType="image/png"/>
  <Override PartName="/ppt/media/image64.wmf" ContentType="image/x-wmf"/>
  <Override PartName="/ppt/media/image65.wmf" ContentType="image/x-wmf"/>
  <Override PartName="/ppt/media/image78.wmf" ContentType="image/x-wmf"/>
  <Override PartName="/ppt/media/image66.wmf" ContentType="image/x-wmf"/>
  <Override PartName="/ppt/media/image77.wmf" ContentType="image/x-wmf"/>
  <Override PartName="/ppt/media/image40.wmf" ContentType="image/x-wmf"/>
  <Override PartName="/ppt/media/image41.wmf" ContentType="image/x-wmf"/>
  <Override PartName="/ppt/media/image7.png" ContentType="image/png"/>
  <Override PartName="/ppt/media/image76.wmf" ContentType="image/x-wmf"/>
  <Override PartName="/ppt/media/image75.wmf" ContentType="image/x-wmf"/>
  <Override PartName="/ppt/media/image74.wmf" ContentType="image/x-wmf"/>
  <Override PartName="/ppt/media/image16.png" ContentType="image/png"/>
  <Override PartName="/ppt/media/image56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71.wmf" ContentType="image/x-wmf"/>
  <Override PartName="/ppt/media/image1.png" ContentType="image/png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15.png" ContentType="image/png"/>
  <Override PartName="/ppt/media/image55.wmf" ContentType="image/x-wmf"/>
  <Override PartName="/ppt/media/image14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2.wmf" ContentType="image/x-wmf"/>
  <Override PartName="/ppt/media/image49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9F5-2BBE-4C92-B769-FCBD05FB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F17-A2F7-4584-86F2-9F65561D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005-3D9B-4DE2-A019-4AD9FFCE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6E9-208D-426F-B4C3-B30F6DE3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A5FD-78AA-4ADA-B80C-9708B88F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00A7-74A3-440E-94BB-DB33EB78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195D-1789-426B-9631-377CB782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5DD0-CDAC-47D4-8D32-81B0F2BF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D307-BDA2-46CE-8A82-A279FCF7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042B-0EBA-4C90-B772-6200ABC0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1788-85B4-4BAB-8B1C-0C33EE32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B51-6F02-461B-A4BB-BD7DDECD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5BD6-4D0C-4D19-892A-3E3B91F3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75A6-6D31-42B8-94E5-AD1C0887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4FB4-2572-49D1-B4A1-839A3FA7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F7BB-C41C-483F-9EFF-DDD224FD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8A6C-0740-4855-BCC7-50267B0E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C92-E7BE-49B6-980D-47239D1B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DBD-4666-42B6-90E5-EC64EE83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8D3-3769-4688-9C0F-43184808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EB6-78EE-4D33-8DAF-AF139879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42A-D85E-4853-BBA2-70AF0B37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55A-856B-41CD-90B1-521E7B99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9C9-E388-4D96-8455-F5F814AF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290A-5A38-40C5-BCD3-5D969C5226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5800" cy="590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1617-5861-43C2-A969-0784D03094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168720" cy="2754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6.wmf"/><Relationship Id="rId2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66"/>
                </a:solidFill>
                <a:latin typeface="Arial"/>
              </a:rPr>
              <a:t>Chemie van de Polymere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66"/>
                </a:solidFill>
                <a:latin typeface="Arial"/>
              </a:rPr>
              <a:t>Chemie van de Carbonylgroep – Stapsgewijze Polymerisati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8FF2-059E-4E4F-ADC4-A77D555869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5364000" y="2525760"/>
          <a:ext cx="32101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525760"/>
                    <a:ext cx="32101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629080" y="2525760"/>
          <a:ext cx="2074680" cy="16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9080" y="2525760"/>
                    <a:ext cx="207468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Fischer esterificatie: mechanis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2741760"/>
          <a:ext cx="1728720" cy="96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2741760"/>
                    <a:ext cx="1728720" cy="9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260360" y="2597040"/>
          <a:ext cx="2293920" cy="104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60360" y="2597040"/>
                    <a:ext cx="229392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614680" y="4408560"/>
          <a:ext cx="1006560" cy="37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14680" y="4408560"/>
                    <a:ext cx="100656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754440" y="2741760"/>
          <a:ext cx="733320" cy="37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54440" y="2741760"/>
                    <a:ext cx="73332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861080" y="2670120"/>
          <a:ext cx="1135080" cy="1190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61080" y="2670120"/>
                    <a:ext cx="11350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788000" y="4254480"/>
          <a:ext cx="1063440" cy="37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88000" y="4254480"/>
                    <a:ext cx="10634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942320" y="3621240"/>
          <a:ext cx="828720" cy="896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942320" y="3621240"/>
                    <a:ext cx="8287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7078680" y="3821040"/>
          <a:ext cx="1603440" cy="1963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78680" y="3821040"/>
                    <a:ext cx="160344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861080" y="4902120"/>
          <a:ext cx="2414520" cy="884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61080" y="4902120"/>
                    <a:ext cx="24145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148360" y="5910120"/>
          <a:ext cx="466560" cy="173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148360" y="5910120"/>
                    <a:ext cx="4665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9E3-1B24-4696-9A5D-3073AAC83D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Principe van polyesterificat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38080" y="2379600"/>
          <a:ext cx="769320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79600"/>
                    <a:ext cx="769320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A85-C8A4-4201-B756-86AC87D2AD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Vernetting van onverzadigde polyest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49440" y="2500200"/>
          <a:ext cx="4070160" cy="25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2500200"/>
                    <a:ext cx="407016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800600" y="2496960"/>
          <a:ext cx="4343400" cy="30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496960"/>
                    <a:ext cx="43434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3DE-2660-458A-8C0B-95938345D9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Alkyd hars receptu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95280" y="2432160"/>
            <a:ext cx="7305840" cy="349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5F7-658F-4137-B22D-7F9DC2BE5C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Mechanisme van stapsgewijze polymerisatie van </a:t>
            </a:r>
            <a:r>
              <a:rPr b="1" lang="nl-BE" sz="3200" spc="-1" strike="noStrike">
                <a:solidFill>
                  <a:srgbClr val="006666"/>
                </a:solidFill>
                <a:latin typeface="Symbol"/>
                <a:ea typeface="Symbol"/>
              </a:rPr>
              <a:t>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-caprolacta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00240" y="2347920"/>
          <a:ext cx="573228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2347920"/>
                    <a:ext cx="57322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313-9E66-4F72-AE6E-2A125B991E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Fysische eigenschappen van polyamid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38080" y="2832120"/>
          <a:ext cx="3770280" cy="27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32120"/>
                    <a:ext cx="377028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716360" y="3519360"/>
            <a:ext cx="422460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830-AA57-4D2D-9700-B1DD5AE34C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ynthese van polyim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33480" y="2362320"/>
          <a:ext cx="5951520" cy="43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2362320"/>
                    <a:ext cx="5951520" cy="43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296-D3A1-4670-A32D-5CB2B87D88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ynthese van polyanhydr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60400" y="2362320"/>
          <a:ext cx="76485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2362320"/>
                    <a:ext cx="76485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4CF-A62A-441B-B9B5-8B7199D861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tructuur van Gliadel®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87480" y="2376360"/>
          <a:ext cx="6821280" cy="427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376360"/>
                    <a:ext cx="6821280" cy="42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29A-6822-43BE-8994-1F114CC902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Acetaalvorming</a:t>
            </a:r>
            <a:br>
              <a:rPr sz="3600"/>
            </a:b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mechanis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38360" y="2360520"/>
          <a:ext cx="231588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2360520"/>
                    <a:ext cx="23158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2171880" y="2590920"/>
          <a:ext cx="18493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90920"/>
                    <a:ext cx="1849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079800" y="2697120"/>
          <a:ext cx="3336840" cy="11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9800" y="2697120"/>
                    <a:ext cx="333684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686560" y="3557520"/>
          <a:ext cx="1596960" cy="251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86560" y="3557520"/>
                    <a:ext cx="159696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394-3A59-4AF2-ACFC-C1F3084215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tructuur van de carbonylgroe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9880" y="3656160"/>
          <a:ext cx="768816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3656160"/>
                    <a:ext cx="768816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B22-B466-4220-9D1D-B8879D9F91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Acetaalvorming</a:t>
            </a:r>
            <a:br>
              <a:rPr sz="3600"/>
            </a:b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mechanis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90720" y="2327400"/>
          <a:ext cx="2162160" cy="15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27400"/>
                    <a:ext cx="216216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100240" y="2514600"/>
          <a:ext cx="2173320" cy="14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0240" y="2514600"/>
                    <a:ext cx="21733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182760" y="2941560"/>
          <a:ext cx="3427560" cy="100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82760" y="2941560"/>
                    <a:ext cx="342756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699160" y="2835360"/>
          <a:ext cx="1154160" cy="342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99160" y="2835360"/>
                    <a:ext cx="115416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409920" y="4795920"/>
          <a:ext cx="2730600" cy="18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09920" y="4795920"/>
                    <a:ext cx="273060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30A-50EB-4506-A1B9-3E8B027CA2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738360" y="2360520"/>
          <a:ext cx="231588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2360520"/>
                    <a:ext cx="23158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171880" y="2590920"/>
          <a:ext cx="18493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90920"/>
                    <a:ext cx="1849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Acetaalvorming</a:t>
            </a:r>
            <a:br>
              <a:rPr sz="3600"/>
            </a:b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mechanis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079800" y="2697120"/>
          <a:ext cx="3336840" cy="11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9800" y="2697120"/>
                    <a:ext cx="333684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5686560" y="3557520"/>
          <a:ext cx="1596960" cy="251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86560" y="3557520"/>
                    <a:ext cx="159696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764280" y="420228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66"/>
                </a:solidFill>
                <a:latin typeface="Arial"/>
              </a:rPr>
              <a:t>H+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cccc"/>
                </a:solidFill>
                <a:latin typeface="Arial"/>
              </a:rPr>
              <a:t>H+ u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17800" y="2482920"/>
            <a:ext cx="522360" cy="507960"/>
          </a:xfrm>
          <a:prstGeom prst="ellipse">
            <a:avLst/>
          </a:prstGeom>
          <a:noFill/>
          <a:ln cap="sq"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58080" y="3300480"/>
            <a:ext cx="522000" cy="507960"/>
          </a:xfrm>
          <a:prstGeom prst="ellipse">
            <a:avLst/>
          </a:prstGeom>
          <a:noFill/>
          <a:ln cap="sq"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383-2597-464B-B482-5597DB4B90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736640" y="2514600"/>
          <a:ext cx="21733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2514600"/>
                    <a:ext cx="21733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Acetaalvorming</a:t>
            </a:r>
            <a:br>
              <a:rPr sz="3600"/>
            </a:b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mechanis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27120" y="2327400"/>
          <a:ext cx="2162160" cy="15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2327400"/>
                    <a:ext cx="216216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719440" y="3159000"/>
          <a:ext cx="3427200" cy="100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9440" y="3159000"/>
                    <a:ext cx="34272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235480" y="3065400"/>
          <a:ext cx="1154160" cy="342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35480" y="3065400"/>
                    <a:ext cx="115416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75040" y="5013360"/>
          <a:ext cx="2730600" cy="18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5040" y="5013360"/>
                    <a:ext cx="273060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843200" y="2641680"/>
            <a:ext cx="522000" cy="507960"/>
          </a:xfrm>
          <a:prstGeom prst="ellipse">
            <a:avLst/>
          </a:prstGeom>
          <a:noFill/>
          <a:ln cap="sq"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84640" y="4981680"/>
            <a:ext cx="522360" cy="507960"/>
          </a:xfrm>
          <a:prstGeom prst="ellipse">
            <a:avLst/>
          </a:prstGeom>
          <a:noFill/>
          <a:ln cap="sq"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1520" y="484020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66"/>
                </a:solidFill>
                <a:latin typeface="Arial"/>
              </a:rPr>
              <a:t>H+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cccc"/>
                </a:solidFill>
                <a:latin typeface="Arial"/>
              </a:rPr>
              <a:t>H+ u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3A2-FD95-47F3-BECE-C8BD3562DF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Polyaceta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838080" y="3002040"/>
          <a:ext cx="769320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02040"/>
                    <a:ext cx="769320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A7A-52BC-4F2E-A008-F53721B66E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Mechanisme van urethaanvorm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71480" y="2319480"/>
          <a:ext cx="604368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2319480"/>
                    <a:ext cx="604368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665-A7D5-4EA3-B5CB-A109C373DA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Di-isocyanaten (aromatisch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693800" y="2282760"/>
          <a:ext cx="568980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3800" y="2282760"/>
                    <a:ext cx="568980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712880" y="4691160"/>
          <a:ext cx="586584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2880" y="4691160"/>
                    <a:ext cx="58658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452-8E69-431F-81BD-569BD78B04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Di-isocyanaten (alifatisch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521000" y="2701800"/>
          <a:ext cx="621504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2701800"/>
                    <a:ext cx="62150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533680" y="4437000"/>
          <a:ext cx="2889360" cy="13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3680" y="4437000"/>
                    <a:ext cx="288936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AF6-D6EA-44AC-BC70-CCC4244644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IDPI: verschil in reactivite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586320" y="2855880"/>
          <a:ext cx="211284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6320" y="2855880"/>
                    <a:ext cx="211284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F83-FA00-41AD-8952-3E015E92CD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Werking DBT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905120" y="2362320"/>
          <a:ext cx="664200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362320"/>
                    <a:ext cx="664200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4B3-EB95-4F14-B9A9-5C2226EE9A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Werking tertiaire am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832200" y="3611520"/>
          <a:ext cx="185724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2200" y="3611520"/>
                    <a:ext cx="185724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055-55E4-4E53-A1E0-4B3D6DB3A6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tructuur van carbonylgroep:</a:t>
            </a:r>
            <a:br>
              <a:rPr sz="3600"/>
            </a:b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ladingsverde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3366"/>
                </a:solidFill>
                <a:latin typeface="Arial"/>
              </a:rPr>
              <a:t>Inductief eff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3366"/>
                </a:solidFill>
                <a:latin typeface="Arial"/>
              </a:rPr>
              <a:t>Resonantiecanonie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821200" y="2690640"/>
          <a:ext cx="992520" cy="8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1200" y="2690640"/>
                    <a:ext cx="992520" cy="8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275440" y="4749840"/>
          <a:ext cx="81576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75440" y="4749840"/>
                    <a:ext cx="815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724360" y="4508640"/>
          <a:ext cx="25783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508640"/>
                    <a:ext cx="25783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842-0EDC-480D-86B4-6289026549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Interactie alcohol-DABCO-IDP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249720" y="3146400"/>
          <a:ext cx="2766960" cy="19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9720" y="3146400"/>
                    <a:ext cx="276696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FC2-28B6-4767-876E-7039849CFF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eactie tussen water en isocyana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008000" y="2362320"/>
          <a:ext cx="513072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2362320"/>
                    <a:ext cx="513072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ADD-AB27-41AA-BA90-54D2CC3CED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eactie tussen amine en isocyana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225440" y="2362320"/>
          <a:ext cx="69166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2362320"/>
                    <a:ext cx="69166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06B-7C3C-4569-AB80-2E6CD2CA3C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Eigenschappen van HCFK-141b en penta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7480" y="2540160"/>
            <a:ext cx="7675560" cy="286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152-FED6-438E-9F23-93F1943422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Polyurethaan elastomer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838080" y="2997360"/>
          <a:ext cx="7693200" cy="24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97360"/>
                    <a:ext cx="769320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3EB-F050-41E9-8C90-8ED6AB24622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Polyurethaan elastomeren -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766880" y="2362320"/>
          <a:ext cx="626904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6880" y="2362320"/>
                    <a:ext cx="626904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D7D-E1BF-4DD0-A482-E87BCE583C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ynthese van epoxyha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838080" y="2571840"/>
          <a:ext cx="7693200" cy="33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71840"/>
                    <a:ext cx="7693200" cy="33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96A-85A2-45E8-863C-D91DA44F48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Harden van epoxyha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838080" y="2624040"/>
          <a:ext cx="4640400" cy="39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24040"/>
                    <a:ext cx="4640400" cy="39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684760" y="2478240"/>
          <a:ext cx="3284640" cy="90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84760" y="2478240"/>
                    <a:ext cx="328464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5529240" y="2575080"/>
            <a:ext cx="0" cy="4008240"/>
          </a:xfrm>
          <a:prstGeom prst="line">
            <a:avLst/>
          </a:prstGeom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A50-2E04-419D-87E8-0CE9F0D0EF0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Vorming fenol-formaldehyde in zuur midd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880920" y="2451240"/>
          <a:ext cx="505332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2451240"/>
                    <a:ext cx="505332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EB3-A46F-4C99-9CA6-B91010D4BBD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Fenol-formaldehyde: vernet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889280" y="2362320"/>
          <a:ext cx="6507000" cy="43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9280" y="2362320"/>
                    <a:ext cx="650700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0B1-3932-40BD-84A6-46307D805AD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Ladingsverdeling in metha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3366"/>
                </a:solidFill>
                <a:latin typeface="Arial"/>
              </a:rPr>
              <a:t>Ladingen H-CO-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Arial"/>
              </a:rPr>
              <a:t>O: -0,32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Arial"/>
              </a:rPr>
              <a:t>C: +0,077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Arial"/>
              </a:rPr>
              <a:t>H: +0,11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33640" y="3035160"/>
            <a:ext cx="3524400" cy="2508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494480" y="3408480"/>
            <a:ext cx="792360" cy="17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B71-3708-4178-A07C-B6A763635D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Vorming fenol-formaldehyde in basisch midd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119240" y="2347920"/>
          <a:ext cx="434340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2347920"/>
                    <a:ext cx="434340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F9E-B760-4361-8696-8EE20EA5C4F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Aminehars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478240" y="3316320"/>
          <a:ext cx="359568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3316320"/>
                    <a:ext cx="359568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02A-A461-4143-9C2B-0842BF9F1B6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Ureum-formaldehy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174680" y="2347920"/>
          <a:ext cx="4711680" cy="44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2347920"/>
                    <a:ext cx="471168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E2A-2963-4BB0-BB7B-F5FFF756C47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Overzicht van functionele groep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Arial"/>
              </a:rPr>
              <a:t>Es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Arial"/>
              </a:rPr>
              <a:t>Carbona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Arial"/>
              </a:rPr>
              <a:t>Am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Arial"/>
              </a:rPr>
              <a:t>Im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Arial"/>
              </a:rPr>
              <a:t>Anhydr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Arial"/>
              </a:rPr>
              <a:t>Uretha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73480" y="2300400"/>
          <a:ext cx="114120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3480" y="2300400"/>
                    <a:ext cx="11412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002040" y="2894040"/>
          <a:ext cx="144612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2040" y="2894040"/>
                    <a:ext cx="14461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086280" y="3502080"/>
          <a:ext cx="11412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6280" y="3502080"/>
                    <a:ext cx="11412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962440" y="4241880"/>
          <a:ext cx="1442880" cy="71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62440" y="4241880"/>
                    <a:ext cx="14428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030480" y="4976640"/>
          <a:ext cx="1446120" cy="51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30480" y="4976640"/>
                    <a:ext cx="1446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997360" y="5740560"/>
          <a:ext cx="1442880" cy="71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97360" y="5740560"/>
                    <a:ext cx="14428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D2A-CBB9-4092-9E6E-8F532C6EF1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Overzicht van functionele groepen -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3366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3366"/>
                </a:solidFill>
                <a:latin typeface="Arial"/>
              </a:rPr>
              <a:t>Carbonzu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3366"/>
                </a:solidFill>
                <a:latin typeface="Arial"/>
              </a:rPr>
              <a:t>Zuurchlor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3366"/>
                </a:solidFill>
                <a:latin typeface="Arial"/>
              </a:rPr>
              <a:t>Am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3366"/>
                </a:solidFill>
                <a:latin typeface="Arial"/>
              </a:rPr>
              <a:t>Isocyana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765600" y="2448000"/>
          <a:ext cx="158256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5600" y="2448000"/>
                    <a:ext cx="158256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D67-0F21-4258-ABE3-E89FD7849E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Overzicht van functionele groepen -3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3366"/>
                </a:solidFill>
                <a:latin typeface="Arial"/>
              </a:rPr>
              <a:t>Ke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3366"/>
                </a:solidFill>
                <a:latin typeface="Arial"/>
              </a:rPr>
              <a:t>Aldehy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3366"/>
                </a:solidFill>
                <a:latin typeface="Arial"/>
              </a:rPr>
              <a:t>Formaldehy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24280" y="2219400"/>
          <a:ext cx="1401840" cy="25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4280" y="2219400"/>
                    <a:ext cx="140184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28D-1387-4889-8E98-46B1D4C8C4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708200" y="3309840"/>
          <a:ext cx="377172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3309840"/>
                    <a:ext cx="377172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Nucleofiele acylsubstitutie: algemeen mechanis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22400" y="3506760"/>
          <a:ext cx="84132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2400" y="3506760"/>
                    <a:ext cx="84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492280" y="3506760"/>
          <a:ext cx="22248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2280" y="3506760"/>
                    <a:ext cx="2224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919240" y="3441600"/>
          <a:ext cx="943200" cy="60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9240" y="3441600"/>
                    <a:ext cx="943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881600" y="3178080"/>
          <a:ext cx="271764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81600" y="3178080"/>
                    <a:ext cx="27176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5B9-116A-4CE2-9012-AA1FFC1808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Activering van carbony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638680" y="3813120"/>
            <a:ext cx="1716120" cy="1344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656320" y="2335320"/>
            <a:ext cx="1658880" cy="132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033560" y="2638440"/>
          <a:ext cx="4091040" cy="303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560" y="2638440"/>
                    <a:ext cx="40910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7772400" y="2919240"/>
            <a:ext cx="800280" cy="19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724-096A-46A7-8B61-D26D005B13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5:18:32Z</dcterms:created>
  <dc:creator>Jooken Etienne</dc:creator>
  <dc:description/>
  <dc:language>en-US</dc:language>
  <cp:lastModifiedBy>Jooken Etienne</cp:lastModifiedBy>
  <dcterms:modified xsi:type="dcterms:W3CDTF">2007-09-26T12:21:08Z</dcterms:modified>
  <cp:revision>14</cp:revision>
  <dc:subject/>
  <dc:title>Chemie van de polymeren</dc:title>
</cp:coreProperties>
</file>