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057-EAB0-4D2C-89F8-65712CC9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1C1-E656-47A6-93C5-CFD16612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0D3-C594-4CA7-9044-CC8650B9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A05-9030-4936-B80E-523E952A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9DC1-0B55-4D9F-A57C-1C0A5A37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F256-775C-4763-BFF3-8E5F2679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4E96-5AFD-4A37-9EBC-FD661A7B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5258-48C7-4DE0-B885-AA16DDE0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C8DF-A3BB-4F79-BB5D-38B574E4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6764-5C0D-4863-BC96-C1D590EF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59CD-8F39-445E-9EED-033166A3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263-CEC2-43DA-9C56-FE931699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01A1-7BB9-44F9-B25F-EB520F4B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F111-C41A-449B-B655-7A17A80C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2CD7-6EE7-4525-B651-0C6316BD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2C19-E3DE-4925-9EFE-0BFDAB9A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2BEF-0A0E-47AC-B189-76AEC78C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AD5-007A-46DC-88CE-029F99A6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CAB-F0A9-4359-9C11-476580EC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591-B7AD-4776-B98F-7BFB6022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E22-B9EF-4802-9CE9-3FC008D1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248-67C7-47FE-BDD2-C42B1FB2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FEB-CC13-4BD5-9AEA-EF7D6A3E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4F8-C218-4017-8258-D71E31F7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485F-1689-47F0-9315-34BBB4045B0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5800" cy="590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0A3F-FC94-495B-9F1E-CDFF23C41F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168720" cy="2754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3366"/>
                </a:solidFill>
                <a:latin typeface="Arial"/>
              </a:rPr>
              <a:t>Chemie van de Polymer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66"/>
                </a:solidFill>
                <a:latin typeface="Arial"/>
              </a:rPr>
              <a:t>Copolymerisati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AEDE-D437-473D-8EAA-B4011D3865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ynthese van entcolopymeer: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a. enten vanaf hoofdketen -3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38160" y="2362320"/>
          <a:ext cx="74916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2362320"/>
                    <a:ext cx="74916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198-6EA4-40E5-9057-D5FDB15619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ynthese van entcolopymeer: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a. enten vanaf hoofdketen -4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47640" y="2276640"/>
          <a:ext cx="460872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76640"/>
                    <a:ext cx="46087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D2E-5838-4148-A4C5-25EDC24424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ynthese van entcolopymeer: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. Techniek van macromeer -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2362320"/>
          <a:ext cx="76914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14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8B2-D954-45DF-9CB8-C908A04799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ynthese van entcolopymeer: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. Techniek van macromeer -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87280" y="3573360"/>
          <a:ext cx="667260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73360"/>
                    <a:ext cx="66726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839-D287-4936-8ECD-4C321823A4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ynthese van entcolopymeer: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. Techniek van macromeer -3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32000" y="2451240"/>
          <a:ext cx="676908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51240"/>
                    <a:ext cx="67690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269-6BC3-4C21-84D2-D4D39176F7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ynthese van entcolopymeer: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. Techniek van macromeer -4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24000" y="2276640"/>
          <a:ext cx="4608720" cy="45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276640"/>
                    <a:ext cx="460872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271-5218-4A21-A3AF-F06044E13A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000" spc="-1" strike="noStrike">
                <a:solidFill>
                  <a:srgbClr val="006666"/>
                </a:solidFill>
                <a:latin typeface="Arial"/>
              </a:rPr>
              <a:t>Synthese van entcopolymeer:</a:t>
            </a:r>
            <a:br>
              <a:rPr sz="3000"/>
            </a:br>
            <a:r>
              <a:rPr b="1" lang="nl-BE" sz="3000" spc="-1" strike="noStrike">
                <a:solidFill>
                  <a:srgbClr val="006666"/>
                </a:solidFill>
                <a:latin typeface="Arial"/>
              </a:rPr>
              <a:t>c. Terminatie van zijtak op hoofdketen -1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340000" y="2392200"/>
          <a:ext cx="4502160" cy="44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392200"/>
                    <a:ext cx="450216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95E-F1DA-4952-AF90-4F7CE2EF1E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000" spc="-1" strike="noStrike">
                <a:solidFill>
                  <a:srgbClr val="006666"/>
                </a:solidFill>
                <a:latin typeface="Arial"/>
              </a:rPr>
              <a:t>Synthese van entcopolymeer:</a:t>
            </a:r>
            <a:br>
              <a:rPr sz="3000"/>
            </a:br>
            <a:r>
              <a:rPr b="1" lang="nl-BE" sz="3000" spc="-1" strike="noStrike">
                <a:solidFill>
                  <a:srgbClr val="006666"/>
                </a:solidFill>
                <a:latin typeface="Arial"/>
              </a:rPr>
              <a:t>c. Terminatie van zijtak op hoofdketen -2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76360" y="2565360"/>
          <a:ext cx="6488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565360"/>
                    <a:ext cx="6488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72A-99C0-4293-B977-D34F201ECC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000" spc="-1" strike="noStrike">
                <a:solidFill>
                  <a:srgbClr val="006666"/>
                </a:solidFill>
                <a:latin typeface="Arial"/>
              </a:rPr>
              <a:t>Synthese van entcopolymeer:</a:t>
            </a:r>
            <a:br>
              <a:rPr sz="3000"/>
            </a:br>
            <a:r>
              <a:rPr b="1" lang="nl-BE" sz="3000" spc="-1" strike="noStrike">
                <a:solidFill>
                  <a:srgbClr val="006666"/>
                </a:solidFill>
                <a:latin typeface="Arial"/>
              </a:rPr>
              <a:t>c. Terminatie van zijtak op hoofdketen -3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87680" y="2362320"/>
          <a:ext cx="493704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2362320"/>
                    <a:ext cx="493704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1AC-3029-448D-B59B-FBD6F8FF11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ynthese van blokcopolymeer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a. monomeer + levend polymeer -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2844720"/>
          <a:ext cx="838836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44720"/>
                    <a:ext cx="838836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CD6-E2D2-430D-8CBA-E0283C0865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Colopymerisatiecurv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058160" cy="43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AC2-4A83-4833-A0CB-C03F92FC72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ynthese van blokcopolymeer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a. monomeer + levend polymeer -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849320" y="2362320"/>
          <a:ext cx="632304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9320" y="2362320"/>
                    <a:ext cx="63230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487-ADDF-4D3E-AEB3-1E182FB990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ynthese van blokcopolymeer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. initiatie van keteneinde -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32000" y="3573360"/>
          <a:ext cx="70387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573360"/>
                    <a:ext cx="70387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959-A560-4101-83E6-B1D1C38CB5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ynthese van blokcopolymeer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. initiatie van keteneinde -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16000" y="2362320"/>
          <a:ext cx="7704000" cy="41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362320"/>
                    <a:ext cx="77040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472-5491-4C85-846A-055A1D7127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100" spc="-1" strike="noStrike">
                <a:solidFill>
                  <a:srgbClr val="006666"/>
                </a:solidFill>
                <a:latin typeface="Arial"/>
              </a:rPr>
              <a:t>Synthese van blokcopolymeer</a:t>
            </a:r>
            <a:br>
              <a:rPr sz="3100"/>
            </a:br>
            <a:r>
              <a:rPr b="1" lang="nl-BE" sz="3100" spc="-1" strike="noStrike">
                <a:solidFill>
                  <a:srgbClr val="006666"/>
                </a:solidFill>
                <a:latin typeface="Arial"/>
              </a:rPr>
              <a:t>c. koppelen van verschillende ketens -1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56000" y="2997360"/>
          <a:ext cx="4186080" cy="19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997360"/>
                    <a:ext cx="418608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86D-DAD1-4377-8727-80FE3843AE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100" spc="-1" strike="noStrike">
                <a:solidFill>
                  <a:srgbClr val="006666"/>
                </a:solidFill>
                <a:latin typeface="Arial"/>
              </a:rPr>
              <a:t>Synthese van blokcopolymeer</a:t>
            </a:r>
            <a:br>
              <a:rPr sz="3100"/>
            </a:br>
            <a:r>
              <a:rPr b="1" lang="nl-BE" sz="3100" spc="-1" strike="noStrike">
                <a:solidFill>
                  <a:srgbClr val="006666"/>
                </a:solidFill>
                <a:latin typeface="Arial"/>
              </a:rPr>
              <a:t>c. koppelen van verschillende ketens -2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403280" y="2349360"/>
          <a:ext cx="443880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44388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7AF-A540-43E2-84D0-B6DC292602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100" spc="-1" strike="noStrike">
                <a:solidFill>
                  <a:srgbClr val="006666"/>
                </a:solidFill>
                <a:latin typeface="Arial"/>
              </a:rPr>
              <a:t>Synthese van blokcopolymeer</a:t>
            </a:r>
            <a:br>
              <a:rPr sz="3100"/>
            </a:br>
            <a:r>
              <a:rPr b="1" lang="nl-BE" sz="3100" spc="-1" strike="noStrike">
                <a:solidFill>
                  <a:srgbClr val="006666"/>
                </a:solidFill>
                <a:latin typeface="Arial"/>
              </a:rPr>
              <a:t>d. inifer techniek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3108240"/>
          <a:ext cx="7802640" cy="22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08240"/>
                    <a:ext cx="780264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D75-23BC-42B3-A969-46A6352A80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eactiviteitsverhouding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7127640" cy="324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54D-8984-4B3A-A088-7726B5BBF7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epaling van reactiviteitsratio’s: theoretisch voorbeeld -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3816360" cy="170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FF5-6B01-429B-A785-EBF3080392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epaling van reactiviteitsratio’s: theoretisch voorbeeld -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6912000" cy="430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BEA-973A-4DD4-A9E6-30A773B154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epaling van reactiviteitsratio’s: praktisch voorbeel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608360" cy="41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D52-9238-4F73-8A78-D9BDAF8126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Alfrey-Price Q-e waard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4032360" cy="345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93B-53E9-4117-B833-64C095ECE2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ynthese van entcolopymeer: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a. enten vanaf hoofdketen -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2787480"/>
          <a:ext cx="8305920" cy="31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87480"/>
                    <a:ext cx="830592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505-1282-4D97-90DF-11CE9356ED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ynthese van entcolopymeer: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a. enten vanaf hoofdketen -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4360" y="3303720"/>
          <a:ext cx="845964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03720"/>
                    <a:ext cx="845964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6C4-EB5F-4BB1-BFE1-84A2266132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2:27:17Z</dcterms:created>
  <dc:creator>jooken</dc:creator>
  <dc:description/>
  <dc:language>en-US</dc:language>
  <cp:lastModifiedBy>jooken</cp:lastModifiedBy>
  <dcterms:modified xsi:type="dcterms:W3CDTF">2007-09-12T13:02:19Z</dcterms:modified>
  <cp:revision>3</cp:revision>
  <dc:subject/>
  <dc:title>Chemie van de Polymeren</dc:title>
</cp:coreProperties>
</file>