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7C5-E86B-4CF0-B997-70143491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D0E-32C6-40E4-A873-8C688E8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8E2-B017-4675-8F74-FCC36816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4EB-59FA-4AB7-A047-3A17386B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C0F9-BE2F-4E7B-99A1-55E98BEF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FF82-A2C3-430E-A4F0-B176976F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7CE3-CBE7-4288-83C0-FECF18E2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B37C-8947-4E6F-B4C1-D3DB977B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92CB-2AC3-4897-8A99-9EB40AFE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C047-1BBB-4FFC-9132-A46C7E70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BD2E-5E09-491A-86D3-A375E32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C31-F9B4-4CB1-AFB2-12AA57EE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A1B6-1B2A-43CC-9B6C-996BA39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0D37-1694-403D-82FE-B135BE99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4FF2-DFAD-4DAD-9302-642D6B6F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7853-5F9D-42C5-994A-DFFC5B41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941B-E1AD-484B-832A-6118240B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BEE-9567-4B5E-99AD-922FA6C1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011-CAB1-4D8A-A7D6-09E8D64F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EDC-6B1F-45DD-AD94-59F488B8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C3A-6D4C-43E0-9962-AF1108A5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9F7-E4D7-4FF0-984D-603EB3B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14E-C228-40CB-B7ED-4F7D110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7A6-61BA-42D8-B68F-3E1551E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5F86-1E00-4CDF-99A1-C4F6518A0D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E2DB-8A61-40C7-BFDD-9164010C74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Technieken van Industriële Polymerisat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3780-B328-4745-91CD-1E090C5124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Opstelling voor continue massapolymeris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908000" y="2349360"/>
          <a:ext cx="5546880" cy="42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349360"/>
                    <a:ext cx="5546880" cy="42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835-1B6D-4774-8898-C4CEE6A5AD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Opstelling voor oplossingspolymeris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665440"/>
          <a:ext cx="7693200" cy="31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65440"/>
                    <a:ext cx="76932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8E2-E445-46D2-9C64-DAC80AAB9A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Typisch recept voor suspensiepolymeris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7056720" cy="15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7AB-39DF-4F2B-B15B-3387B714B9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Typische opstelling voor industriële suspensiepolymeris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671920" y="2362320"/>
          <a:ext cx="37018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1920" y="2362320"/>
                    <a:ext cx="37018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021-8669-4E5B-803D-8AF6FE9E73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Structuur van S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8000" y="2421000"/>
          <a:ext cx="4176720" cy="28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21000"/>
                    <a:ext cx="417672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68360" y="5229360"/>
            <a:ext cx="3770640" cy="13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0ED-042E-48AD-9986-C84662C25A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chematische voorstelling van een mic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6520" y="2362320"/>
            <a:ext cx="36766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A40-5511-45A5-89B6-417E025D15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erloop van een emulsiepolymeris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68640" y="2362320"/>
            <a:ext cx="5499000" cy="407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675-A2A1-4581-847A-7A2F563463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Typisch recept voor emulsiepolymeris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5616720" cy="270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40E-1211-458F-9D8E-CCA6286A6B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03:10Z</dcterms:created>
  <dc:creator>jooken</dc:creator>
  <dc:description/>
  <dc:language>en-US</dc:language>
  <cp:lastModifiedBy>Jooken Etienne</cp:lastModifiedBy>
  <dcterms:modified xsi:type="dcterms:W3CDTF">2007-09-16T21:16:57Z</dcterms:modified>
  <cp:revision>3</cp:revision>
  <dc:subject/>
  <dc:title>Chemie van de Polymeren</dc:title>
</cp:coreProperties>
</file>