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6.wmf" ContentType="image/x-wmf"/>
  <Override PartName="/ppt/media/image41.wmf" ContentType="image/x-wmf"/>
  <Override PartName="/ppt/media/image8.png" ContentType="image/png"/>
  <Override PartName="/ppt/media/image16.wmf" ContentType="image/x-wmf"/>
  <Override PartName="/ppt/media/image12.wmf" ContentType="image/x-wmf"/>
  <Override PartName="/ppt/media/image13.wmf" ContentType="image/x-wmf"/>
  <Override PartName="/ppt/media/image32.wmf" ContentType="image/x-wmf"/>
  <Override PartName="/ppt/media/image9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39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70FD-3AFA-4D14-AB70-DDDF2FB1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871B-0838-4554-878A-166E654F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7645-0425-4D2F-BCCD-5564ABDB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D337-C72D-4A3C-98CF-965AC41C7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2229-2CFC-4998-8996-F71480E3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4844-198F-4D8C-AA89-08D5D97E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AF1F-3D47-4452-B0DE-BC4683BE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59D2-074C-4E18-97A1-563222DA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A4D0-0118-46D7-8547-A5710DE5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28E4-B387-4DE2-A9B4-E94AC2CE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F9D0-C8E5-46B0-915F-D80F68E1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AFF8-E91D-469B-A324-67972B98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542D-712D-4EC9-A953-D0DF2853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C34F-F8D1-4BD0-9D52-AE9DD9F5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D869-8D35-43BA-BE7A-0F199D93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D222-BF04-44F7-AA1F-0F6A3401E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019F-A592-42DD-B3DF-9DA0E750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8E4D-DEAC-4DD1-8EA3-BB22E52C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827E-1B3C-4F97-BCF4-F9F448A2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104D-FA0E-438C-8467-610F5002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ABDE-13DC-4C7F-85C0-EC30CFEA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6499-E26F-4A00-91A7-17DE900D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C243-447D-4E0B-924D-1465AB58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03FC-5069-4DB4-B9B5-A1828527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98C8-E3F1-4B27-B407-550AF66D78D6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25800" cy="590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2753-87A7-48F0-927D-D5CFC5009170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6920" y="3213000"/>
            <a:ext cx="3168720" cy="2754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3366"/>
                </a:solidFill>
                <a:latin typeface="Arial"/>
              </a:rPr>
              <a:t>Chemie van de Polymere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66"/>
                </a:solidFill>
                <a:latin typeface="Arial"/>
              </a:rPr>
              <a:t>Chemie van de alkeengroep - ketenpolymerisati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65C0-394C-49A4-AF3D-44B7068CE3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Initiatie – reactie van BP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152360" y="2362320"/>
          <a:ext cx="706464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2362320"/>
                    <a:ext cx="706464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42F4-34E6-48E9-993B-CAE058CC3D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Initiatie: reactie van AIB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050920" y="3716280"/>
          <a:ext cx="5462640" cy="8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3716280"/>
                    <a:ext cx="546264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E2DF-D8FA-4448-AC96-89F1278A14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Initiatie: reactie van peroxodisulfaa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47640" y="3716280"/>
          <a:ext cx="5772240" cy="8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716280"/>
                    <a:ext cx="577224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8050-F439-49AD-A34F-717804D94D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Algemene initiatiereact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340000" y="3284640"/>
          <a:ext cx="3843360" cy="16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284640"/>
                    <a:ext cx="3843360" cy="16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FD72-3735-400E-BE4D-5C4CFC00F9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Radicalaire propagat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619280" y="2492280"/>
          <a:ext cx="6448320" cy="33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492280"/>
                    <a:ext cx="6448320" cy="33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D87E-5B65-4083-9D47-86B7483EAD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Terminat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268360" y="2637000"/>
          <a:ext cx="5513400" cy="12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637000"/>
                    <a:ext cx="5513400" cy="12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1619280" y="4365720"/>
          <a:ext cx="6581880" cy="161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4365720"/>
                    <a:ext cx="6581880" cy="16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DF50-A351-4932-ADD3-AB97D298F7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Ketentransfer naar CCl</a:t>
            </a:r>
            <a:r>
              <a:rPr b="1" lang="nl-BE" sz="3600" spc="-1" strike="noStrike" baseline="-25000">
                <a:solidFill>
                  <a:srgbClr val="006666"/>
                </a:solidFill>
                <a:latin typeface="Arial"/>
              </a:rPr>
              <a:t>4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476360" y="3573360"/>
          <a:ext cx="611028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573360"/>
                    <a:ext cx="6110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A64D-6DDD-4DB8-9E29-735987ECB2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Ketentransfer naar monome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893880" y="2362320"/>
          <a:ext cx="6769080" cy="332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3880" y="2362320"/>
                    <a:ext cx="6769080" cy="33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A0A3-3E34-4A35-92E3-CF20BC6F7C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Polymerisatie volgens diverse mechanism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87280" y="2349360"/>
            <a:ext cx="6264360" cy="405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B9CF-D8A2-4679-8648-4347FCAE67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Berekende ladingen voor twee carbokation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79640" y="3357720"/>
          <a:ext cx="5797440" cy="13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3357720"/>
                    <a:ext cx="579744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B9B8-A77D-480D-86F8-878A2FFE4E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De vinylgroe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627280" y="2708280"/>
          <a:ext cx="3562560" cy="27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2708280"/>
                    <a:ext cx="3562560" cy="27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2607-049C-49FF-ABB5-CC50BDEA5B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Vorming van natrium nafta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979640" y="3357720"/>
          <a:ext cx="6041880" cy="13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3357720"/>
                    <a:ext cx="604188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0820-3DB1-4256-A4B9-AF4CA158E8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Reactie van natrium naftalide met styre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547640" y="2276640"/>
          <a:ext cx="6409080" cy="42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276640"/>
                    <a:ext cx="6409080" cy="42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5795-EAEC-4C9E-AA06-37A8CCA3E5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Dimerisatie van styreen anion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619280" y="3068640"/>
          <a:ext cx="6521400" cy="18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068640"/>
                    <a:ext cx="6521400" cy="18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E97E-3C1C-4880-B821-7DB45BA815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Polymerisatie enthalpieë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403280" y="2349360"/>
          <a:ext cx="496908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349360"/>
                    <a:ext cx="49690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F6A0-0590-4E0C-A068-A73F9CF1BB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Ringopeningspolymerisatie van ethyleenoxide: Initiati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619280" y="3284640"/>
          <a:ext cx="6070680" cy="143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284640"/>
                    <a:ext cx="6070680" cy="14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4760-241F-4E0F-A317-CE7DAF47331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Ringopeningspolymerisatie van ethyleenoxide: Propagati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838080" y="2523960"/>
          <a:ext cx="7348680" cy="32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23960"/>
                    <a:ext cx="7348680" cy="32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3927-3BAB-4167-983E-3E6FCB269A0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Ringopeningspolymerisatie van </a:t>
            </a:r>
            <a:r>
              <a:rPr b="1" lang="nl-BE" sz="3200" spc="-1" strike="noStrike">
                <a:solidFill>
                  <a:srgbClr val="006666"/>
                </a:solidFill>
                <a:latin typeface="Symbol"/>
                <a:ea typeface="Symbol"/>
              </a:rPr>
              <a:t></a:t>
            </a: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-caprolactam: Initiati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157400" y="2362320"/>
          <a:ext cx="705312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7400" y="2362320"/>
                    <a:ext cx="705312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1BC2-A378-46E1-A922-7775AB7A18F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Ringopeningspolymerisatie van </a:t>
            </a:r>
            <a:r>
              <a:rPr b="1" lang="nl-BE" sz="3200" spc="-1" strike="noStrike">
                <a:solidFill>
                  <a:srgbClr val="006666"/>
                </a:solidFill>
                <a:latin typeface="Symbol"/>
                <a:ea typeface="Symbol"/>
              </a:rPr>
              <a:t></a:t>
            </a: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-caprolactam: Propagatie -1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826920" y="2349360"/>
          <a:ext cx="6553440" cy="410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49360"/>
                    <a:ext cx="6553440" cy="41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C762-B339-4D9B-84BC-467B33A07BB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Ringopeningspolymerisatie van </a:t>
            </a:r>
            <a:r>
              <a:rPr b="1" lang="nl-BE" sz="3200" spc="-1" strike="noStrike">
                <a:solidFill>
                  <a:srgbClr val="006666"/>
                </a:solidFill>
                <a:latin typeface="Symbol"/>
                <a:ea typeface="Symbol"/>
              </a:rPr>
              <a:t></a:t>
            </a: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-caprolactam: Propagatie -2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14400" y="2362320"/>
          <a:ext cx="574056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4400" y="2362320"/>
                    <a:ext cx="574056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BB6C-A3AC-46BB-965D-B241053B285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Typische Ziegler-Natta katalysator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7489800" cy="2900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1BBC-3D9D-4352-8EBA-A050CF83B75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Enkele vinylmonomeren CH</a:t>
            </a:r>
            <a:r>
              <a:rPr b="1" lang="nl-BE" sz="36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=CX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68360" y="2421000"/>
            <a:ext cx="3549960" cy="41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756B-9D58-4A73-9052-53158D47B2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Voorbeelden van coördinatie polymerisati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5112000" cy="379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D680-0EF5-47C6-BF89-094A443944A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Structuur van katalysator -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635280" y="3213000"/>
          <a:ext cx="2340000" cy="19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3213000"/>
                    <a:ext cx="234000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E017-FB4F-4B18-9E02-A6C097A5561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Structuur van katalysator -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109960" y="2362320"/>
          <a:ext cx="514800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960" y="2362320"/>
                    <a:ext cx="514800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8D15-9869-4A59-A2E2-2B5CFC0B87E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Binding tussen metaalion en alke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046320" y="2362320"/>
          <a:ext cx="327528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6320" y="2362320"/>
                    <a:ext cx="327528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DBE7-B6C0-41BA-95A0-8291E1AB29F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Monometaalmechanism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403280" y="2276640"/>
          <a:ext cx="4897440" cy="41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276640"/>
                    <a:ext cx="4897440" cy="41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AC45-E392-4F00-8408-A986C35D92E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Bimetaalmechanism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060640" y="2362320"/>
          <a:ext cx="524808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0640" y="2362320"/>
                    <a:ext cx="524808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A327-2CA8-46BD-AF86-EA29F9E6D69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3D structuur van Ziegler-Natta Katalysato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66760" y="2819520"/>
            <a:ext cx="7797960" cy="311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CBE4-A27C-49F8-9633-45F9D324B57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Voorbeelden van ROM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627280" y="2997360"/>
          <a:ext cx="4081320" cy="22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2997360"/>
                    <a:ext cx="4081320" cy="22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1EA7-65A2-4AD3-8816-540F1363E92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Katalysatoren voor ROM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838080" y="2749680"/>
          <a:ext cx="8129880" cy="31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9680"/>
                    <a:ext cx="812988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40C5-D962-4E8A-8FF1-390E0904055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Mechanisme van ROM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692360" y="2349360"/>
          <a:ext cx="5832360" cy="43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349360"/>
                    <a:ext cx="5832360" cy="43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983E-4487-40F0-9F48-A647C1A0BBC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Structuur van koolstofradica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523960" y="3952800"/>
          <a:ext cx="798840" cy="108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960" y="3952800"/>
                    <a:ext cx="79884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4284720" y="3357720"/>
          <a:ext cx="2820960" cy="22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357720"/>
                    <a:ext cx="282096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40ED-CE56-4730-8B4E-6AF81187B3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Synthese van polyacetyle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219400" y="2362320"/>
          <a:ext cx="5737320" cy="43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9400" y="2362320"/>
                    <a:ext cx="5737320" cy="43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8AA2-34B2-441E-8857-2DC9745F477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Structuur van carbok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916360" y="2997360"/>
          <a:ext cx="290016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2997360"/>
                    <a:ext cx="290016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F615-6EE8-42A2-B9AC-C904A7ACE4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Carbok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149640" y="2362320"/>
            <a:ext cx="3070080" cy="372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6610-DEE8-4B5B-822A-BB896B0D82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Structuur van carban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132000" y="3357720"/>
          <a:ext cx="2462400" cy="13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3357720"/>
                    <a:ext cx="24624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888B-73D3-48F8-A4C3-B02C621A1F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Algemeen mechanisme van een ketenreacti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556000" y="2349360"/>
          <a:ext cx="328752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349360"/>
                    <a:ext cx="328752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F7A7-F0E3-46FC-A4CA-42D64E49BF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Vergelijking stapsgewijze- en ketenpolymerisati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7848720" cy="327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E908-1854-4242-B9E2-AA5586B523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3:33:04Z</dcterms:created>
  <dc:creator>jooken</dc:creator>
  <dc:description/>
  <dc:language>en-US</dc:language>
  <cp:lastModifiedBy>Jooken Etienne</cp:lastModifiedBy>
  <dcterms:modified xsi:type="dcterms:W3CDTF">2007-09-27T11:29:35Z</dcterms:modified>
  <cp:revision>12</cp:revision>
  <dc:subject/>
  <dc:title>Chemie van de Polymeren</dc:title>
</cp:coreProperties>
</file>