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2ED-5120-4E84-A4C0-06EB6D7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191-7713-44DA-A746-59C751F8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A67-547A-424C-82DB-B54C61D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F03-643C-4368-ACB1-A21E5D3A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4147-0C9F-47D7-AFFC-53FCE10B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4AEA-EFEF-4F03-B87F-14A672EC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D9B2-D90C-4A56-8642-7E58C93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DA1-CF0A-40C4-9C07-5280C57C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A1EA-67F0-4F5F-AD42-45E0E2A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8CAD-99B7-4408-A5CB-2089583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7AA-2AE9-4DAA-AC2B-1F3A477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3EE-A793-4C34-891E-ADF1626D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4C7C-C6FA-4F3B-8981-8AB3CBD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7BC0-AABB-4ADE-AC22-9DBBEFF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F16A-9366-41FD-9995-AEBEB50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59A-9554-40A4-BF16-B1B38279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66D0-CCFF-4217-A756-8FEC8EEE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B45-A2A6-42D3-9353-73FB7C7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10D-C2ED-4E78-ABC3-C064C22F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42A-C0BB-4D30-A090-ADF8A97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957-A5ED-4590-8F23-7D6689B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3E6-5FAA-4638-9E83-FE9059D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F37-9538-42E3-AB65-F080A2E5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462-2ADD-4E13-9FF7-76DE162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577-5932-49AE-9180-8DE73099E6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769-6BF5-447B-858A-B213CECC1F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Thermodynamica van Polymeeroplossing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B0F-9A36-4BED-ABCF-8AADEBD777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Flory-Huggins Rooster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55640" y="2682720"/>
            <a:ext cx="6058080" cy="308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67C-D8D0-4621-BC7D-849A44B1E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Flory-Krigbaum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7360" y="2629080"/>
            <a:ext cx="6253200" cy="31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31B-1F67-453F-99C9-C3A16BE86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weede viriaalcoëfficiënt als functie van de molmass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2421000"/>
          <a:ext cx="511200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51120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19A-FA39-4384-940C-D12A2E4515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46:16Z</dcterms:created>
  <dc:creator>jooken</dc:creator>
  <dc:description/>
  <dc:language>en-US</dc:language>
  <cp:lastModifiedBy>Jooken</cp:lastModifiedBy>
  <dcterms:modified xsi:type="dcterms:W3CDTF">2007-09-11T11:54:58Z</dcterms:modified>
  <cp:revision>2</cp:revision>
  <dc:subject/>
  <dc:title>Chemie van de Polymeren</dc:title>
</cp:coreProperties>
</file>