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78B-7AF6-4A95-A3D6-F1A632C2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016-C2D4-4FE2-8165-A0241FE3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DF0-0DAB-490E-87EF-41705347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48B-2DBD-4CE1-A119-5C754B3B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32C3-6EEE-4B49-BC0F-D37DA925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839F-A21D-4F89-9D7F-2BD21928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9F32-8A38-45D4-BFFA-E11F45FB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E463-24B0-49B0-A4C5-E2BDA286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64C8-DE57-4BA5-8EFC-D560F5DD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2688-E67E-435E-87DA-8E5BFF5A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2B8A-1EB1-45CE-886F-15694C23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8D0-B107-4C3A-B68A-EC163CE0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D2FF-738E-4D69-8AAC-CC388FC5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F484-AE74-4451-98BE-C5768E33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02F3-011B-45D2-8F8F-86147B7D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E56D-F6D4-4332-BB08-C7CF49BB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B3ED-CE7F-4B68-9222-E9B51A2C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313-ED1C-49DC-8367-EA1042F6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CB7-67BF-48F9-A6AF-5407E5C4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396-FC65-47E2-8EF9-5861D21B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D06-2678-4C35-A55A-982AE953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D99-ADDB-489F-ADB1-CEA87564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A58-32A1-47D8-BC6E-99AA1620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3B1-8593-4EF2-97C7-A150308F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570C-5016-47FB-ABE2-96D57CF698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5800" cy="590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BD59-76CA-4C2A-A390-B6693C2A45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168720" cy="2754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3366"/>
                </a:solidFill>
                <a:latin typeface="Arial"/>
              </a:rPr>
              <a:t>Chemie van de Polymer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66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B68E-5875-49F5-82C0-3427467B00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Wereldproductie van enkele polymeerfamil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32000" y="2419200"/>
          <a:ext cx="4897440" cy="44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19200"/>
                    <a:ext cx="489744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23C-F3C5-4F0D-BACA-A270D14D64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Jaartal van introductie van enkele polymer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2349360"/>
          <a:ext cx="8604360" cy="41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860436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BA4-5D77-41F0-BB05-02F457FACE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12:44Z</dcterms:created>
  <dc:creator>jooken</dc:creator>
  <dc:description/>
  <dc:language>en-US</dc:language>
  <cp:lastModifiedBy>jooken</cp:lastModifiedBy>
  <dcterms:modified xsi:type="dcterms:W3CDTF">2007-09-11T09:26:50Z</dcterms:modified>
  <cp:revision>8</cp:revision>
  <dc:subject/>
  <dc:title>Dia 1</dc:title>
</cp:coreProperties>
</file>