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8C8-76AF-414A-977A-A8D19812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1D4-8891-430A-828C-5582BD7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123-0211-4EAE-BA7B-273C78D8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2AA-AC82-4755-A14B-CB497F4B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DA4F-3967-4BD2-85FA-CB269CEB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660-FF1B-4496-9DD1-56704C3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CFD9-866D-4C39-BC4D-933DDF2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A0C-4348-4792-8BBB-85297D8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A92B-26DF-476D-8067-56CAA42F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C28B-BE6E-4E1D-900C-C763480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E54-BB2C-442E-8634-EF8CD74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4BD-AFC5-41BC-A9D5-2CC5B21D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9537-06ED-472B-80FE-4DD711B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822-F409-4732-9195-38FD363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C599-D2F6-46BF-9483-60434B4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30E-7A5E-403C-B0D3-6BC543E1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219-ADE8-467A-A8E5-AF0FB1A4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B8E-F84F-4F3C-AEBC-B0ED772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EAA-AFCB-42D8-AC75-860825E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634-7660-4249-9F26-9E00A715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CD4-BAC3-43CB-9714-746761E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37A-0733-4CA5-8419-3196FD5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74F-20F2-4C27-8A55-44E5F11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274-BF67-4425-B12C-E1E723E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F8B-4668-4D2F-90BF-AFF4C9565B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373-8F50-4DA6-A779-7B723EA841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Begrippen van Chemische Thermodynamic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7A1-D450-4F49-94C8-1EA88143AF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als functie van de vorderingsgra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344016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F38-FF01-43DE-819B-623C1AF287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Expansie in een cyl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9731"/>
          <a:stretch/>
        </p:blipFill>
        <p:spPr>
          <a:xfrm>
            <a:off x="2484360" y="2349360"/>
            <a:ext cx="353232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109-4E41-4763-813E-769F49BD2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Meetkundige interpretatie van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en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-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2362320"/>
            <a:ext cx="358596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A85-D4B3-4149-B787-9D40EF8CA3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als functie van </a:t>
            </a:r>
            <a:r>
              <a:rPr b="1" i="1" lang="nl-BE" sz="3600" spc="-1" strike="noStrike">
                <a:solidFill>
                  <a:srgbClr val="006666"/>
                </a:solidFill>
                <a:latin typeface="Arial"/>
              </a:rPr>
              <a:t>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419904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4E4-DC23-4C03-B61F-A69325C3D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Meetkundige interpretatie van Chemische Potentia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5040360" cy="41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F57-197F-41D2-B4C4-A85860B1F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als integraal van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p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) bij vaste stof / vloeisto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358632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AFF-24C1-41B3-A67F-DBAA19F40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als integraal van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p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) bij ideaal g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418608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CD9-F7AD-4E3C-BDE9-D65FF9E485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nzeen en Tolueen als ideaal mengs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2362320"/>
            <a:ext cx="37069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30A-8027-4C20-BA57-C293785A2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Koolstofdisulfide en aceton als niet ideaal mengs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304776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06C-FF0A-479D-BCE3-06DDDEAF7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25:41Z</dcterms:created>
  <dc:creator>jooken</dc:creator>
  <dc:description/>
  <dc:language>en-US</dc:language>
  <cp:lastModifiedBy>Jooken Etienne</cp:lastModifiedBy>
  <dcterms:modified xsi:type="dcterms:W3CDTF">2007-09-27T12:57:48Z</dcterms:modified>
  <cp:revision>3</cp:revision>
  <dc:subject/>
  <dc:title>Chemie van de Polymeren</dc:title>
</cp:coreProperties>
</file>