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B3E-C953-430D-BAE6-AA87CCF6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74F-CFFF-4A13-8587-024616F5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666-74BD-4556-BD9F-0B15A1CD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0DF-CCED-4E2B-9070-1A22514C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96A-CB8E-423F-95D8-42E2ED01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3B3-DBAA-499D-AF5E-ADD51E6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3882-33BC-4F8B-9FFC-FBD0A7A9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C13-AF4D-4E4C-B01B-4B3F445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0EAB-DE81-4CDD-A9C7-83CA512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717-1C2E-4D9A-BD09-EB98F6BF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936-A7DC-41F9-87A3-F8F630C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37D-C2DC-4DD4-9D40-B530A34B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0F87-B627-4D1E-80B1-D8ECADC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9CA-32CB-4CD2-AB08-839773F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343-548F-4B85-88D9-58D1B2B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8DC-3792-4E8E-889D-0F7ACBD1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4C13-3E0F-4BB0-BC61-92065D76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C31-B23B-4C52-9FF9-DCF5A871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515-8656-44FF-9851-A548DA9B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5DC-DA2C-40E7-93F2-11590CEB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6CF-9BEA-4A8A-AB04-310F17E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E44-A23F-43B6-90F0-291EB98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C9F-83C7-44E5-B9AB-D106FDA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E81-F25C-441B-BBC0-4419D88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79B6-1015-4272-8C5B-8AA402389C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898-52EA-4A17-AF2D-4FF33F17EF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Kinetica van de Polymerisatiereac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223-2DEE-48C6-A608-8C3110D5E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Kinetische plot van polyesterific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93880" y="2362320"/>
            <a:ext cx="4159080" cy="4235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435280" y="2361960"/>
            <a:ext cx="3095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Open cirkels: 1,10-hexamethyleengly-col met adipinezuur (161°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3366"/>
                </a:solidFill>
                <a:latin typeface="Arial"/>
              </a:rPr>
              <a:t>Gesloten cirkels: diethyleenglycol met adipinezuur (109°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2AB-2143-45D3-8B02-FBD04C86EA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Gemiddelde polymerisatiegraad bij afwijking stoichiometr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632720" cy="315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C36-EC05-48A1-AE88-587868772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ingvorming en polymeris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704000" cy="23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880-A941-4A7B-9E7C-BCCF2A4ED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antalverdelingsfunc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2362320"/>
          <a:ext cx="616752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61675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AEF-4B66-4AAD-B2BF-DAE8643CE7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Gewichtsverdelingsfunc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43280" y="2362320"/>
          <a:ext cx="548136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362320"/>
                    <a:ext cx="5481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227-8EF2-45C6-896A-ED551E6C0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Getal- en gewichtsgemiddelde molmassa in de verdel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44800" y="2365200"/>
            <a:ext cx="5695920" cy="40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78C-6038-4496-ABAB-FDE8D0A69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nelheidsconstanten voor decomposite van initiator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896000" cy="40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5E1-A004-4238-B009-932EF97BA8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Snelheidsconstanten voor propagatie en termin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7490160" cy="21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7AB-1456-4FCB-B91A-972C547CC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Instant gemiddel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17364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156-52E9-410C-BE40-94DE1592F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ransfersnelheidsconstan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7561080" cy="272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75A-79D1-41C1-84BA-488B66669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Reagens- en productconcentratie als functie van tij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563920"/>
            <a:ext cx="3770280" cy="33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61000" y="2575080"/>
            <a:ext cx="3770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DAF-0C1E-4FAE-9661-24DA0A3DC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Activeringsenergieë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767640" cy="27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1EB-175A-4186-A8F1-24ACD2D552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Norrish-Trommsdorff effect bij pM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71560" y="2362320"/>
            <a:ext cx="6329520" cy="404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48B-B9FC-4BDF-84D7-94E07C043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Norrish-Trommsdorff effect bij pMMA in benzeen als functie van concentra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945480" cy="398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0FA-2539-4BA0-8FAD-E4D249570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Intermoleculaire interacties bij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iso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en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syndio</a:t>
            </a: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 react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08040" y="2362320"/>
          <a:ext cx="6308640" cy="36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2362320"/>
                    <a:ext cx="6308640" cy="36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BB4-F470-4AD2-A0A6-FEA34C468B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Bepaling van snelheidsconstante </a:t>
            </a:r>
            <a:r>
              <a:rPr b="1" i="1" lang="nl-BE" sz="3200" spc="-1" strike="noStrike">
                <a:solidFill>
                  <a:srgbClr val="006666"/>
                </a:solidFill>
                <a:latin typeface="Arial"/>
              </a:rPr>
              <a:t>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3181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135-48AF-4F97-9A48-36206BEAE6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epaling van activeringsener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3068640" cy="41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963-8183-406A-8F30-2A0828B1D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Difunctionele monome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31308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268-E5D8-418F-937D-27AA33C69A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Difunctionele monomeren met één functionele groe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1360" y="2362320"/>
          <a:ext cx="465300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1360" y="2362320"/>
                    <a:ext cx="465300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563-1765-400E-9752-DA30CFBD8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Dubbele bindingen en ringen als difunctioneel reage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17960" y="2362320"/>
          <a:ext cx="3441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2362320"/>
                    <a:ext cx="3441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E61-CC12-4B61-82AB-66B1969F4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ransesterific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544840"/>
          <a:ext cx="7693200" cy="33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44840"/>
                    <a:ext cx="769320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D02-D3BD-41FF-81A4-0A614E57B7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Vorderingsgraad versus gemiddelde polymerisatiegra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832720" cy="38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14B-6C79-44EF-9E13-1146A78D5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7:32:19Z</dcterms:created>
  <dc:creator>jooken</dc:creator>
  <dc:description/>
  <dc:language>en-US</dc:language>
  <cp:lastModifiedBy>Jooken Etienne</cp:lastModifiedBy>
  <dcterms:modified xsi:type="dcterms:W3CDTF">2007-09-27T13:04:23Z</dcterms:modified>
  <cp:revision>3</cp:revision>
  <dc:subject/>
  <dc:title>Chemie van de Polymeren</dc:title>
</cp:coreProperties>
</file>