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6.png" ContentType="image/png"/>
  <Override PartName="/ppt/media/image40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10.wmf" ContentType="image/x-wmf"/>
  <Override PartName="/ppt/media/image2.png" ContentType="image/png"/>
  <Override PartName="/ppt/media/image4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28.png" ContentType="image/png"/>
  <Override PartName="/ppt/media/image31.wmf" ContentType="image/x-wmf"/>
  <Override PartName="/ppt/media/image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E12-E8AB-4AFE-9ADE-D4DD6E9B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339-99A8-4B8C-AE59-4D184E90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036-31D8-4334-93F6-C2AF0DE8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EEE-8C2B-4B4C-A2D4-968F0763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B35D-9B58-4B4B-A384-6BAC49F4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FEBE-0F6D-4FE4-803F-6FA0CA18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0524-9624-4B8C-A2FD-479E0DDB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4A69-59C2-4E36-8DD8-0034E183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FF20-0043-4FC9-A3B9-CDD0A89E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D4E1-E5D9-4F6D-972F-B2F003B3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6EAC-1303-4D12-AC33-A92B71D9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FA0-A449-414F-A543-4C844494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8730-DC2D-4731-8D37-88638F11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C293-90BA-4734-9EFF-AF44C256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57D7-361C-42CF-99E0-356F5C25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E978-A012-42E2-82C6-D5B5D75E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7E06-04FC-416E-A53D-D3685118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C03-81D5-4135-9950-F0666EC9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5166-CEEE-4F63-858C-2A61D989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341-299A-42F1-AD3C-66886F42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477-3CC9-4CBB-8238-3222DFF5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48B5-AA6B-4363-982F-E575BA09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6AE-C343-468B-B80E-71D5DC3A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6A0-11D7-4A3C-82C5-FC5DC202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F4B5-C1EC-4EE7-8D64-E401F774258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5800" cy="590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012F-EBFE-4C32-9BBA-0436E66BDC1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3168720" cy="2754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3366"/>
                </a:solidFill>
                <a:latin typeface="Arial"/>
              </a:rPr>
              <a:t>Chemie van de Polymer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66"/>
                </a:solidFill>
                <a:latin typeface="Arial"/>
              </a:rPr>
              <a:t>Structuur en Reactiviteit van Organische Molecul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4CE7-A081-45C9-AAE6-6EC8507690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en </a:t>
            </a:r>
            <a:r>
              <a:rPr b="1" lang="nl-BE" sz="36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* orbitalen in ethe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47640" y="2637000"/>
            <a:ext cx="6654960" cy="390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D54-3885-40D4-8C29-6FF9B6B90B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Ruimtevullende structuren van ethe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352920" cy="410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379-2A26-437A-8001-E615937D96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Richting van sp hybriedorbita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38080" y="2973240"/>
          <a:ext cx="7693200" cy="25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73240"/>
                    <a:ext cx="7693200" cy="25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B8E3-933D-46D3-85C1-0AD6451F5F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Ruimtevullende structuren van ethy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90720" y="2362320"/>
            <a:ext cx="6353280" cy="416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B599-05BE-4294-A4AD-C703A26584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Vergelijking van C-C en C-H binding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2362320"/>
          <a:ext cx="7693200" cy="3967200"/>
        </p:xfrm>
        <a:graphic>
          <a:graphicData uri="http://schemas.openxmlformats.org/drawingml/2006/table">
            <a:tbl>
              <a:tblPr/>
              <a:tblGrid>
                <a:gridCol w="1646280"/>
                <a:gridCol w="1947960"/>
                <a:gridCol w="2346480"/>
                <a:gridCol w="175248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erbinding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inding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E /(kJ.mol</a:t>
                      </a:r>
                      <a:r>
                        <a:rPr b="0" lang="en-US" sz="22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) (*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L /(pm) (*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0" lang="en-US" sz="22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(sp</a:t>
                      </a:r>
                      <a:r>
                        <a:rPr b="0" lang="en-GB" sz="22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)-H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3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0" lang="en-GB" sz="22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-CH</a:t>
                      </a:r>
                      <a:r>
                        <a:rPr b="0" lang="en-GB" sz="22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(sp</a:t>
                      </a:r>
                      <a:r>
                        <a:rPr b="0" lang="en-GB" sz="22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)-C(sp</a:t>
                      </a:r>
                      <a:r>
                        <a:rPr b="0" lang="en-GB" sz="22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6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54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(sp</a:t>
                      </a:r>
                      <a:r>
                        <a:rPr b="0" lang="en-GB" sz="22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)-H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0" lang="en-GB" sz="22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=CH</a:t>
                      </a:r>
                      <a:r>
                        <a:rPr b="0" lang="en-GB" sz="2200" spc="-1" strike="noStrike" baseline="-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(sp</a:t>
                      </a:r>
                      <a:r>
                        <a:rPr b="0" lang="en-GB" sz="22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)-C(sp</a:t>
                      </a:r>
                      <a:r>
                        <a:rPr b="0" lang="en-GB" sz="22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3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3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(sp</a:t>
                      </a:r>
                      <a:r>
                        <a:rPr b="0" lang="en-GB" sz="22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)-H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3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H≡CH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(sp)-C(sp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83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(sp)-H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2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580C-86EA-432A-96DC-E984292492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Ruimtelijke structuur van ammonia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5130720" cy="409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2BC-9F8E-425E-B054-CCA659FF3B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Ruimtelijke structuur van wa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4744800" cy="409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D2F-07FA-461C-B154-22EBC83499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Relatieve stabilite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26920" y="2205000"/>
          <a:ext cx="6697800" cy="45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05000"/>
                    <a:ext cx="669780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9DBB-12BA-4D4E-9E5B-AEA79AF533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Hydrogenatiewarmten van alken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26920" y="3068640"/>
          <a:ext cx="7704360" cy="178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068640"/>
                    <a:ext cx="770436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EDA-78DC-4423-AFD2-F574AFF641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Resonantiekanonieken van fen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79480" y="2362320"/>
          <a:ext cx="58104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9480" y="2362320"/>
                    <a:ext cx="58104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7F6C-F1A8-4CBD-A4B6-0ABCAF9082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Ontstaan van Hybriedorbita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00000" y="2637000"/>
          <a:ext cx="763128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37000"/>
                    <a:ext cx="763128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319-8353-4196-B1E9-C8C1921003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Ladingsverdeling in fen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4751640" cy="410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9B48-8F57-4E4E-826A-218651AD5A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Resonantiekanonieken van styre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371600" y="2362320"/>
          <a:ext cx="662472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362320"/>
                    <a:ext cx="662472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6A9-FF99-4D2F-9EC3-1D3FFFBA2E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Ladingsverdeling in styre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003640" y="2565360"/>
          <a:ext cx="3672000" cy="365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2565360"/>
                    <a:ext cx="367200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3486240" cy="39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F98-4C34-4C1A-AB75-7EE305DEFA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Ruimtelijke voorstelling van butadie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332000" y="2492280"/>
          <a:ext cx="6769080" cy="32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492280"/>
                    <a:ext cx="676908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0CC-C86D-4985-A32B-0BF7CA2063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MO’s van butadie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95640" y="2395440"/>
            <a:ext cx="4752720" cy="405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63BF-323E-43DD-9984-84E6EBE4A1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Bereik van inductief effe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47640" y="2708280"/>
          <a:ext cx="5399280" cy="275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708280"/>
                    <a:ext cx="539928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C87-960D-4BCA-8DED-9456B0EB3A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Sterisch effect bij cis- en trans 2-bute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7775640" cy="2935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11040" y="5354280"/>
            <a:ext cx="237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nl-NL" sz="1800" spc="-1" strike="noStrike" baseline="-25000">
                <a:solidFill>
                  <a:srgbClr val="003366"/>
                </a:solidFill>
                <a:latin typeface="Arial"/>
              </a:rPr>
              <a:t>hyd</a:t>
            </a: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nl-NL" sz="1800" spc="-1" strike="noStrike">
                <a:solidFill>
                  <a:srgbClr val="003366"/>
                </a:solidFill>
                <a:latin typeface="Chemistry"/>
              </a:rPr>
              <a:t>ê</a:t>
            </a: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 = 120 kJ.mol</a:t>
            </a:r>
            <a:r>
              <a:rPr b="0" lang="nl-NL" sz="1800" spc="-1" strike="noStrike" baseline="30000">
                <a:solidFill>
                  <a:srgbClr val="003366"/>
                </a:solidFill>
                <a:latin typeface="Arial"/>
              </a:rPr>
              <a:t>-1</a:t>
            </a: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32120" y="5425560"/>
            <a:ext cx="237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nl-NL" sz="1800" spc="-1" strike="noStrike" baseline="-25000">
                <a:solidFill>
                  <a:srgbClr val="003366"/>
                </a:solidFill>
                <a:latin typeface="Arial"/>
              </a:rPr>
              <a:t>hyd</a:t>
            </a: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nl-NL" sz="1800" spc="-1" strike="noStrike">
                <a:solidFill>
                  <a:srgbClr val="003366"/>
                </a:solidFill>
                <a:latin typeface="Chemistry"/>
              </a:rPr>
              <a:t>ê</a:t>
            </a: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 = 115 kJ.mol</a:t>
            </a:r>
            <a:r>
              <a:rPr b="0" lang="nl-NL" sz="1800" spc="-1" strike="noStrike" baseline="30000">
                <a:solidFill>
                  <a:srgbClr val="003366"/>
                </a:solidFill>
                <a:latin typeface="Arial"/>
              </a:rPr>
              <a:t>-1</a:t>
            </a: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29ED-F3D0-4D5A-91B0-E9E1F19C5B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Hydrogenatiewarmten van cyclische alken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92360" y="2421000"/>
          <a:ext cx="50403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0403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F2C-90FF-4CFE-B4FA-D5DD82F1EA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Ruimtelijke structuur van benze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21271" r="0" b="16841"/>
          <a:stretch/>
        </p:blipFill>
        <p:spPr>
          <a:xfrm>
            <a:off x="900000" y="2565360"/>
            <a:ext cx="7559640" cy="293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103-DA59-46B9-8FA1-DBA3A445EC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Ruimtelijke structuur van cyclo-octa-tetrae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6121440" cy="412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E92-59B1-4BF5-BBB5-A028D9B1C43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Ruimtelijke voorstelling van Metha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4735440" cy="43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7B8-BFE8-4761-B134-6481BC02D9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Projecties van etha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47640" y="2421000"/>
          <a:ext cx="6340680" cy="20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34068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24000" y="4365720"/>
          <a:ext cx="4703760" cy="18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365720"/>
                    <a:ext cx="470376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65A-7A69-408E-ADB5-9FEDBF72F7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Conformaties van etha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763640" y="2421000"/>
          <a:ext cx="4930920" cy="34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421000"/>
                    <a:ext cx="493092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A39F-CB73-4004-B064-F6373ED09F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Rotatiecurve van etha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6913440" cy="40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E4D6-1CD4-424D-8FF2-9FEEC224E45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Conformaties van buta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20880" y="2309760"/>
          <a:ext cx="7107120" cy="43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2309760"/>
                    <a:ext cx="710712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B79-4CAD-44D4-B67E-5C28CBE3072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Interacties in alkan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00000" y="2637000"/>
          <a:ext cx="7777440" cy="238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37000"/>
                    <a:ext cx="777744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5DF-72E1-4F73-9E51-E01DD9D1304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Rotatiecurve van buta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272360" cy="410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C52-B677-48B4-8C86-1A01A4F2E05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Conformaties van penta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116000" y="2347920"/>
          <a:ext cx="619272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347920"/>
                    <a:ext cx="619272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E54-0BCA-45D4-845D-A618939A7C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g</a:t>
            </a:r>
            <a:r>
              <a:rPr b="1" lang="nl-BE" sz="3600" spc="-1" strike="noStrike" baseline="30000">
                <a:solidFill>
                  <a:srgbClr val="006666"/>
                </a:solidFill>
                <a:latin typeface="Arial"/>
              </a:rPr>
              <a:t>+</a:t>
            </a: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g</a:t>
            </a:r>
            <a:r>
              <a:rPr b="1" lang="nl-BE" sz="3600" spc="-1" strike="noStrike" baseline="30000">
                <a:solidFill>
                  <a:srgbClr val="006666"/>
                </a:solidFill>
                <a:latin typeface="Arial"/>
              </a:rPr>
              <a:t>-</a:t>
            </a: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 conformeer van penta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071800" y="2362320"/>
            <a:ext cx="5225760" cy="37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8AC-EFC5-45CE-BA19-F0CFE362D36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Energie contourplot van penta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4968720" cy="410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C1EE-D21E-4A97-9EB0-B547A11D4EC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3 opeenvolgende segmen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763640" y="2349360"/>
          <a:ext cx="5000760" cy="40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349360"/>
                    <a:ext cx="500076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A3F7-85E0-4490-8204-321BA446169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Ruimtelijke voorstelling van etha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5137200" cy="429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F29-4DCE-4B5A-81E9-713CAF3E52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Conformationele spanning in cycloalkan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55640" y="2421000"/>
          <a:ext cx="6408720" cy="437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421000"/>
                    <a:ext cx="6408720" cy="43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F8D1-DF0A-43F7-A5E0-7AB82C56AE4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Stoelconformatie van cyclohexa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838080" y="3206880"/>
          <a:ext cx="7693200" cy="20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206880"/>
                    <a:ext cx="7693200" cy="20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747-A686-49A2-8A24-02433941C93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Tacticite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92360" y="2421000"/>
          <a:ext cx="545292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45292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763640" y="3860640"/>
          <a:ext cx="538344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860640"/>
                    <a:ext cx="53834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763640" y="5383080"/>
          <a:ext cx="5391360" cy="107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5383080"/>
                    <a:ext cx="5391360" cy="10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77C0-55B8-4403-82F5-57491119EC3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Richting van sp</a:t>
            </a:r>
            <a:r>
              <a:rPr b="1" lang="nl-BE" sz="36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 hybriedorbita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735280" y="2362320"/>
          <a:ext cx="389736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5280" y="2362320"/>
                    <a:ext cx="38973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CFE-7091-492E-B54F-A08DF16A49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Vorming van </a:t>
            </a:r>
            <a:r>
              <a:rPr b="1" lang="nl-BE" sz="3600" spc="-1" strike="noStrike">
                <a:solidFill>
                  <a:srgbClr val="006666"/>
                </a:solidFill>
                <a:latin typeface="Symbol"/>
                <a:ea typeface="Symbol"/>
              </a:rPr>
              <a:t></a:t>
            </a: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 MO’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3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124000" y="2349360"/>
          <a:ext cx="405756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349360"/>
                    <a:ext cx="40575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F7A-0807-41B3-82E0-405865964C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Vorming</a:t>
            </a:r>
            <a:r>
              <a:rPr b="1" lang="nl-BE" sz="3200" spc="-1" strike="noStrike">
                <a:solidFill>
                  <a:srgbClr val="006666"/>
                </a:solidFill>
                <a:latin typeface="Symbol"/>
                <a:ea typeface="Symbol"/>
              </a:rPr>
              <a:t></a:t>
            </a: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 en </a:t>
            </a:r>
            <a:r>
              <a:rPr b="1" lang="nl-BE" sz="3200" spc="-1" strike="noStrike">
                <a:solidFill>
                  <a:srgbClr val="006666"/>
                </a:solidFill>
                <a:latin typeface="Symbol"/>
                <a:ea typeface="Symbol"/>
              </a:rPr>
              <a:t></a:t>
            </a: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* orbitalen (Schematisch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4360" y="2492280"/>
          <a:ext cx="8280360" cy="27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828036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8DF-4670-4C2A-9AA7-7DE76C5D0C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Symbol"/>
                <a:ea typeface="Symbol"/>
              </a:rPr>
              <a:t></a:t>
            </a: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en </a:t>
            </a:r>
            <a:r>
              <a:rPr b="1" lang="nl-BE" sz="3600" spc="-1" strike="noStrike">
                <a:solidFill>
                  <a:srgbClr val="006666"/>
                </a:solidFill>
                <a:latin typeface="Symbol"/>
                <a:ea typeface="Symbol"/>
              </a:rPr>
              <a:t></a:t>
            </a: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* MO’s van H</a:t>
            </a:r>
            <a:r>
              <a:rPr b="1" lang="nl-BE" sz="3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7586640" cy="368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7A91-758F-43E1-AAA7-FF8D7529AF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Vorming van </a:t>
            </a:r>
            <a:r>
              <a:rPr b="1" lang="nl-BE" sz="32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 en </a:t>
            </a:r>
            <a:r>
              <a:rPr b="1" lang="nl-BE" sz="32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* orbitalen (Schematisch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35280" y="2421000"/>
          <a:ext cx="5761080" cy="37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421000"/>
                    <a:ext cx="576108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7A7-414B-4E7E-AB91-756852993E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12:44Z</dcterms:created>
  <dc:creator>jooken</dc:creator>
  <dc:description/>
  <dc:language>en-US</dc:language>
  <cp:lastModifiedBy>jooken</cp:lastModifiedBy>
  <dcterms:modified xsi:type="dcterms:W3CDTF">2007-09-11T09:28:07Z</dcterms:modified>
  <cp:revision>13</cp:revision>
  <dc:subject/>
  <dc:title>Dia 1</dc:title>
</cp:coreProperties>
</file>