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0EB-4920-4D56-89F1-D2D57C0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D54-BB5D-429F-B276-2813FCE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371-5B4D-4364-A1FB-CDEDC1F6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CF2-2962-47C9-94D5-D9BE0CAC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3C79-FE76-463E-B63F-8E5A2B32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AAF8-4043-4819-83F5-B0EDA7D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3619-EF06-4089-BDEB-8F16E41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8388-9BE5-4C77-9F8E-88F7460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E2B-E2BB-45E9-8FB7-28AFD53E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A4E6-10F4-413E-8BF4-D743FDF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7769-D489-4F26-A4FD-0CE50A9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7AE-0E30-4FC7-9185-EA769CD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7623-AD4A-4544-A4E5-9F9BDCC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743-9D55-4D60-9F29-81D652F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14D0-05AC-4D81-9E7D-F4DDFCF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5836-AD6C-4A36-ACC9-62628165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161-E490-494B-A977-EB7DAFCD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9C3-69BC-4A8E-B016-A290E39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D87-05DC-4291-8A77-6D4BDF4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73B-0CDF-469A-8944-40F4838E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945-E18A-4C0B-891A-A907BD7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BFE-7F1A-4566-9E28-26117E1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105-8DD0-4FD8-86C9-F22F0ACC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6FE-5A5C-4799-8D1E-1289C00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E8FC-5F39-4966-ACDE-D442FF6811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5800" cy="590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F54-01DF-413E-AC1F-D72F538150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hemie van de Polyme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Thermodynamica van de Polymerisatiereac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DB6-8795-481A-8C1B-C758E99995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Bepaling van molaire entrop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286160" cy="40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632-7B68-4CA1-B086-9C6277C380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Thermodynamische grootheden van enkele monomer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8388360" cy="33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2AB-CEDF-4CE3-A5CB-6E1E72AE75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Polymerisatie-evenwicht voor zwav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299088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069-AD60-4859-B7A0-A5125F980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Monomeer-Polymeer evenwicht</a:t>
            </a:r>
            <a:br>
              <a:rPr sz="3200"/>
            </a:br>
            <a:r>
              <a:rPr b="1" lang="nl-BE" sz="3200" spc="-1" strike="noStrike">
                <a:solidFill>
                  <a:srgbClr val="006666"/>
                </a:solidFill>
                <a:latin typeface="Arial"/>
              </a:rPr>
              <a:t>links: exotherm; rechts: endother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2511360"/>
          <a:ext cx="3770280" cy="34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1360"/>
                    <a:ext cx="377028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61000" y="2511360"/>
          <a:ext cx="3770280" cy="34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1000" y="2511360"/>
                    <a:ext cx="377028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mie van de Polymer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DC4-BC02-41C6-92E8-CF80B8FD6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7:22:50Z</dcterms:created>
  <dc:creator>jooken</dc:creator>
  <dc:description/>
  <dc:language>en-US</dc:language>
  <cp:lastModifiedBy>Jooken Etienne</cp:lastModifiedBy>
  <dcterms:modified xsi:type="dcterms:W3CDTF">2007-09-27T12:59:34Z</dcterms:modified>
  <cp:revision>2</cp:revision>
  <dc:subject/>
  <dc:title>Chemie van de Polymeren</dc:title>
</cp:coreProperties>
</file>